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01EA-71C5-479D-BA43-CCC2CC9A7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arolinasalt.com/?p=2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dynamicscience.com.au/tester/solutions/chemistry/foodchemistry/carbohydrates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en.wikipedia.org/wiki/File:NAD%2B_phys.svg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s://wikispaces.psu.edu/download/attachments/46695631/NAD.jpg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sandwalk.blogspot.com/2007/04/riboflavin-vitamin-b2-fmn-and-fad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ncbi.nlm.nih.gov/books/NBK22398/?rendertype=figure&amp;id=A1968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(Image from: 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http://drmccarthysciencehgms.blogspot.com/2010/03/endothermic-vs-exothermic-chemical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Recall collision theory from Grade 10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4EC0-0D4C-46FB-ACB5-841252F4C406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glogster.com/glog.php?glog_id=10884793&amp;scale=54&amp;isprofile=true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D8D0-5246-4647-87DE-1B6BA8B3A036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D48D-3C1B-4752-BB67-4E75E4396337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A592-1E89-4C2A-806C-4A1440559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E3DC-37FA-4D66-8F2C-701DCBA9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FC0B-6AA9-49BC-B273-11F8AD7BE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AEE8-3881-43AA-A8D3-3406E4135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2B7D-144B-46FE-A0E6-8B8FC0F2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533E-B72B-4FC7-B367-46F18861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9FAC-683B-435A-AD77-2B5DD926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DA9F-D7A8-49B2-8B39-7E896CD2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DE04-360E-4520-A891-2FEED349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5063-7C11-45D8-8A95-3B242D73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F7BF-5428-4147-9A22-BB70A3D3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C271-4EA9-41EF-A313-3FECFDFD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BAB2-ED37-491E-BC22-89159F86D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umanasinc.com/webcontent/animations/content/enzymes/enzyme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zym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amp; E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br>
              <a:rPr sz="4400"/>
            </a:b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3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ox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ox can occur becaus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l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ss or gain of electrons due to electronegativity differenc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-&gt;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is effectively oxidized, O is re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ucose is oxid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ustion (oxidation) of glucose releases a large amount of thermal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ells, oxidation of glucose occurs in a series of steps (controlled oxidation) to minimize E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Carrier: NAD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D+ (nicotinamide adenine dinucleotide) is a coenzyme found in all living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tamin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iacin) deriv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138640" y="1981080"/>
            <a:ext cx="2828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uction of NAD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01600" y="1981080"/>
            <a:ext cx="6940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Carrier: F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D (flavin adenine dinucleotide) is a coenzyme involved in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tamin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iboflavin) deriv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648320" y="2058840"/>
            <a:ext cx="380988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uction of F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5800" y="2981160"/>
            <a:ext cx="777240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ctivation Energy (E</a:t>
            </a:r>
            <a:r>
              <a:rPr b="0" lang="en-CA" sz="4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23960" y="1676520"/>
            <a:ext cx="40942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sms use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e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 practical source becaus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disrupt or denature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non-specific (would speed up all reac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nzymes and E</a:t>
            </a:r>
            <a:r>
              <a:rPr b="0" lang="en-CA" sz="4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60400" y="1981080"/>
            <a:ext cx="562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How is E</a:t>
            </a:r>
            <a:r>
              <a:rPr b="0" lang="en-CA" sz="4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 reduc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nzymes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ovide proper orientation of substrate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ovide specific environments that promote cat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t strain on substrate bonds,  making them easier to br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ation Energy &amp; Enzy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umanasinc.com/webcontent/animations/content/enzymes/enzyme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Food As Fu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ox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are lost from one atom and gained by another at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see also 1.1, page 17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ox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xidizing ag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ducing ag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entire atoms (with their electrons) are transferred during redox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04:20:41Z</dcterms:created>
  <dc:creator>rubina khan</dc:creator>
  <dc:description/>
  <dc:language>en-US</dc:language>
  <cp:lastModifiedBy>rubina khan</cp:lastModifiedBy>
  <dcterms:modified xsi:type="dcterms:W3CDTF">2013-03-07T07:29:58Z</dcterms:modified>
  <cp:revision>53</cp:revision>
  <dc:subject/>
  <dc:title>3.3 Enzymes &amp; Ea 3.4 Food As Fuel</dc:title>
</cp:coreProperties>
</file>